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E89-7B30-4CC2-886B-81EB3A86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A0E-EEEC-4C6D-832C-C0F84372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8A1-B85D-4661-AE25-8C265D68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FB6-B3D6-47FB-BCA3-B2BB4D59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171-AF65-4A6E-9088-80EF0CE1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74F-BFFF-4104-9FD1-F60575EC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EC6-0D1B-45AD-A486-C8F1083E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2D8-21DC-4FCD-BD5C-B4E78487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154-1FDB-49F9-8379-AE3F6840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96B-383A-4AEA-BD51-0EB20ED3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C11-37C1-414D-A92E-F7CC4645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DEA-2C02-485E-961E-BF58ED49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4533-FEB3-4709-8C3D-4FF1F9126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4.xml"/><Relationship Id="rId12" Type="http://schemas.openxmlformats.org/officeDocument/2006/relationships/slide" Target="slide18.xml"/><Relationship Id="rId13" Type="http://schemas.openxmlformats.org/officeDocument/2006/relationships/slide" Target="slide3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slide" Target="slide13.xml"/><Relationship Id="rId19" Type="http://schemas.openxmlformats.org/officeDocument/2006/relationships/slide" Target="slide9.xml"/><Relationship Id="rId20" Type="http://schemas.openxmlformats.org/officeDocument/2006/relationships/slide" Target="slide17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6.xml"/><Relationship Id="rId24" Type="http://schemas.openxmlformats.org/officeDocument/2006/relationships/slide" Target="slide19.xml"/><Relationship Id="rId25" Type="http://schemas.openxmlformats.org/officeDocument/2006/relationships/slide" Target="slide19.xml"/><Relationship Id="rId26" Type="http://schemas.openxmlformats.org/officeDocument/2006/relationships/slide" Target="slide20.xml"/><Relationship Id="rId27" Type="http://schemas.openxmlformats.org/officeDocument/2006/relationships/slide" Target="slide20.xml"/><Relationship Id="rId28" Type="http://schemas.openxmlformats.org/officeDocument/2006/relationships/slide" Target="slide21.xml"/><Relationship Id="rId29" Type="http://schemas.openxmlformats.org/officeDocument/2006/relationships/slide" Target="slide22.xml"/><Relationship Id="rId30" Type="http://schemas.openxmlformats.org/officeDocument/2006/relationships/slide" Target="slide3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1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6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3 here.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2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t Charles School System</cp:lastModifiedBy>
  <cp:lastPrinted>2001-01-31T16:21:13Z</cp:lastPrinted>
  <dcterms:modified xsi:type="dcterms:W3CDTF">2001-01-31T16:40:52Z</dcterms:modified>
  <cp:revision>5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